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263-7703-4442-8A2B-864D8E3C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1B3-041B-43E3-ACB1-EB00C13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262-8CDE-41D6-A579-845F0340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002-F119-489E-8FA0-7A182F0A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CBC-3F8B-4B56-BD34-0531793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D9B-2594-4C54-9F71-F7A98102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104-6545-4620-BD7B-7AFE53AC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DE1-ADF4-41B2-98F0-CC6F0F6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73C-E09B-4DEB-8079-500AB9BE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49E-F20A-4EB6-803A-7D94AC71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111-3859-4755-987E-E3D3340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84B-A2EF-4759-9F03-1EA05BE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F75B-A7C4-4EDE-9729-DEB61B17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About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ret Jent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240" y="1143000"/>
            <a:ext cx="83912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369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y Fri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286000" y="3657600"/>
            <a:ext cx="14479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57150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6765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486400" y="2362320"/>
            <a:ext cx="3657600" cy="1295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486400" y="36576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733920" y="3657600"/>
            <a:ext cx="17524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6576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867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My 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2362320" cy="403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362320" y="2895480"/>
            <a:ext cx="6781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4:10:52Z</dcterms:created>
  <dc:creator>CGB</dc:creator>
  <dc:description/>
  <dc:language>en-US</dc:language>
  <cp:lastModifiedBy>CGB</cp:lastModifiedBy>
  <dcterms:modified xsi:type="dcterms:W3CDTF">2008-06-03T14:05:09Z</dcterms:modified>
  <cp:revision>3</cp:revision>
  <dc:subject/>
  <dc:title>PowerPoint About Me</dc:title>
</cp:coreProperties>
</file>